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2267-336F-4B22-8194-AF22E9D5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BF5E-2CB3-4C9D-88BF-D02F2440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8BAD-A82F-4F7C-A068-5CE225CC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6F3D-5185-4127-B00C-73C55528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E5B3-F9EF-432A-B07F-8317FE6F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EFE7-B8BC-4967-A96E-64ADC2D7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43F8-1D6B-43D2-B90E-3A00338E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A24F-8BA5-4531-A03B-F2866ABC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1C9C-42F8-4A13-9081-7FC86C27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F134-4C07-4AAF-A493-649299B5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DBEC-57E5-4F47-AD81-C4B7EC6D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9050-72FC-4FC2-9CD5-ED6C267F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6643-1CE5-4456-9F62-56F2128B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9F6B-C276-41C4-89A4-1FDCE0FE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41B7-4CBF-4997-9CCE-15E75447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6293-B79F-4F8A-9DA8-DCF8C3CC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2453-888C-4BF7-AFC2-7E0B84B1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8C03-CC42-445D-B5DB-91550F3F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A5AD-4EF2-4E97-B706-81570602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509F-8B0F-49A8-9997-E7158F91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1AFF-3622-433F-95DB-BEC7E6FA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6439-D1C0-445C-9334-6600F52B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D803-6013-4D84-A49E-357901F5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C1D6-44BD-4DE1-B8E3-9A2CC549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3D80-893C-4B73-950A-0FDA5EAFD2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5414-075F-4D12-85AE-004DE3286C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Vocabular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se Gonzal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-2-3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- electronic mail which allows individuals with an account to send messages to another person with an        e-mail accou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C- internet relay chat was developed in 1988 by Jarkko Oikarinen and allows instant online communicating with someone else back and for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BS- bulletin board service allows a user to participate in a discussion group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4-5-6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- hypertext transfer protocol is used for handling the transmission of pages between a web server and a web brows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TP- file transfer protocol is used to rapidly transfer fi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NET- a program used on networks such as the internet to allow users to remotely log on to a server on the net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7-8-9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PHER- one of the first widespread internet browsing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ANET- a network used by a single organization and only accessible by authorized us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WALL- a network security system that prevents unauthorized network acc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0-11-1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ANET- an extended intranet that provides various level of access to authorized members of the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PROFILING- a marketing technique that collects online data about consum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KIES- small files that contain information about the web site an individual has visit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3-14-15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NET- a collection of servers that offer Netne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DWIDTH- the amount of data and the speed at which the data can travel over the transmission med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- a computer that accesses a server to request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6-17-18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L- digital subscri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HERNET- a widely used protocol for Lans that uses a bus or star topology and connects the network devices by twisted-pair wiring, coaxial cable, or fiber optic c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IQUETTE- the etiquette that should be followed when using a network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9-20-21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COL- a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LOGY- the logical arrangement of the nodes on a net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RELESS NETWORKS- a type of network that does not require the used of c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2-23-24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INTERFACE CARD- a circuit board that goes into the base unit of a computer or other device in a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P- internet service provider is a company that offers access to the internet for a f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- a series of related web p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35:27Z</dcterms:created>
  <dc:creator>046student</dc:creator>
  <dc:description/>
  <dc:language>en-US</dc:language>
  <cp:lastModifiedBy>046student</cp:lastModifiedBy>
  <dcterms:modified xsi:type="dcterms:W3CDTF">2009-04-16T15:25:47Z</dcterms:modified>
  <cp:revision>5</cp:revision>
  <dc:subject/>
  <dc:title>Vocabulary</dc:title>
</cp:coreProperties>
</file>